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7BF-6721-414A-934F-523A17B7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C0D-1B63-486C-A11D-BEB63473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915-3D04-4C07-88F5-EDAB2012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A22-15F6-4AF2-8D57-9D0F07B2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F00C-E11F-4F62-B676-C2D2128A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6FFE-1ABE-4D09-9B68-72FDBBA8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368C-8723-4124-B1B6-C53E67A5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CCA4-BD31-4284-81D3-97636CA5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8FD8-DB16-40C1-97F5-AC75478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9D5B-3814-4103-93B5-47F18B1D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B3B8-8941-41BE-B990-F9D61D46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BFC-52FD-411E-8FE4-166A9855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9A63-9118-4044-847A-13F39DA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122D-3B6B-4F89-B637-A356BB67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306F-9596-41EE-B84B-9021BFF4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9A92-D62B-40F0-A93D-902E1807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024B-0658-42A1-9AA5-C1FF2C10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5DB5-EC7C-47CB-BE63-F6194C41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1650-2DFA-4DE8-9AD1-95307A41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1963-5FD7-4E1F-B3B7-D65268E7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34AF-A2D9-4BF5-939D-96F50172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6D01-EF73-4192-A38D-D6F540DC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2EB-2D7C-46F9-A91E-A909E4A1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F7C7-BAB3-46A5-A42B-4EB322AB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4FC5-F993-4C3E-808D-A9AA2F00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6F1C-2947-4403-9E5C-D80F014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3ACD-AB85-43E6-990E-24E8336A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C99E-4D57-4951-95A1-42F34E4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A0D7-5E9C-4EA7-B84D-257D95A3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E03A-BA07-4BB3-8C90-0E9C0C09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DFF-25EA-4C6A-B3B9-FEF8A60E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CB5-C4F5-4CF8-B0EE-68F07AE9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6B5-EB51-4CB0-BFCC-D6611696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1ED-BE08-4779-98B5-5D5D0878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81F-0972-440A-A81A-4C003AD9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76D-D494-4189-9ECD-309A060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EA8-29F5-4083-A230-D2A4DC08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7FB6-0CD2-4CE6-B251-4910F97104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2D06-2871-454C-A580-54A349C560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Bk BT"/>
              </a:rPr>
              <a:t>Chez Grand-ma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81480" y="5334120"/>
            <a:ext cx="37339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52578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Nous jouons à cache-c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9880" y="5562720"/>
            <a:ext cx="53341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56272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Elle et moi, nous aimons faire la sie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867280" y="22860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sterBodoni BT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PosterBodoni BT"/>
              </a:rPr>
              <a:t>Je l’embrasse sur la jo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19720" y="5029200"/>
            <a:ext cx="4724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50292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Elle et moi, nous aimons jou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6272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5638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Je veux rester encore un p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GoudyHandtooled BT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Est-ce qu’elle aime la maison de grand-ma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and est-ce qu’elle va à la maison de grand-ma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’est-ce qu’elle fait avec son chi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i est-ce que le chien a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Est-ce que nous aimons mar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Est-ce que nous promenons son chi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i joue cache-cac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’est-ce que nous mangeons à la maison de grand-ma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Est-ce qu’elle joue avec son c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Pourquoi est-ce qu’elle voudrait rester chez sa grand-ma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33920" y="51055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J’aime la maison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grand-ma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76920" y="43434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sterBodoni BT"/>
              </a:rPr>
              <a:t>J’y vais aujourd’h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3808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sterBodoni BT"/>
              </a:rPr>
              <a:t>Nous jouons avec son chi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181480" y="480060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sterBodoni BT"/>
              </a:rPr>
              <a:t>Son chien aime jouer avec n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867280"/>
            <a:ext cx="9144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867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’aime la maison de grand-ma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00600" y="5562720"/>
            <a:ext cx="4343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5486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sterBodoni BT"/>
              </a:rPr>
              <a:t>Elle et moi, nous aimons mar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638680"/>
            <a:ext cx="4800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6386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Nous promenons son ch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791320"/>
            <a:ext cx="4724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7150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J’aime la maison de grand-ma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9:20Z</dcterms:created>
  <dc:creator>CVJH-LAB</dc:creator>
  <dc:description/>
  <dc:language>en-US</dc:language>
  <cp:lastModifiedBy>nield411</cp:lastModifiedBy>
  <dcterms:modified xsi:type="dcterms:W3CDTF">2008-02-23T14:57:48Z</dcterms:modified>
  <cp:revision>13</cp:revision>
  <dc:subject/>
  <dc:title>Slide 1</dc:title>
</cp:coreProperties>
</file>